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1EC-9E40-4B74-A43B-A6543E44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01F-FDFD-4E17-A9FD-D479DA4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9CE-5986-49C1-945A-1C0438C6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F7A-66A9-45C2-8D5B-C2495C00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191-CF8A-4526-8E7F-AD430F47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554-3E53-46D3-9169-E5A2A44F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49F-4C1E-4CA8-976A-BB5A442D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2CC-6EBA-4440-889D-C3682E6D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B20-DD18-40E8-8CCB-FC63656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597-F5B8-4F20-A622-5E4A8CC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40A-2F71-46BA-8E81-28838F1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BEF-B9B8-431B-9C3B-5B729B6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B432-304A-4256-9DD1-16920FAE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3747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95280"/>
            <a:ext cx="56386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0199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800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5812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362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71629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295280"/>
            <a:ext cx="0" cy="693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295280"/>
            <a:ext cx="0" cy="693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360" y="9144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8960" y="914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85920" y="9144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22640" y="144792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st  tell  say 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peat  memorize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cognize read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50720" y="2438280"/>
            <a:ext cx="2212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plain  describe 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aphrase  summar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w report tell in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cuss express 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2600" y="3657600"/>
            <a:ext cx="2171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assify  con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lve  diagram 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 use dramat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aw model ope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illust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11760" y="4952880"/>
            <a:ext cx="261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pare  contrast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tinguish analyze ex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stion  take away c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apart  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1080" y="7238880"/>
            <a:ext cx="268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 invent predi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sign imagine plan com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range assume trans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ypothesize der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1640" y="6095880"/>
            <a:ext cx="257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end  refute  ju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e  critique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praise determine vali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ss decide justif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6840" y="163656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             R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8440" y="28558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tstand        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3400" y="39625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                  Use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840" y="5105520"/>
            <a:ext cx="37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              Brea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Part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4480" y="7391520"/>
            <a:ext cx="32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            Put Part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4120" y="6324480"/>
            <a:ext cx="29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              Mak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2:57:43Z</dcterms:created>
  <dc:creator>Lisa Carter Waring</dc:creator>
  <dc:description/>
  <dc:language>en-US</dc:language>
  <cp:lastModifiedBy>Lisa Carter Waring</cp:lastModifiedBy>
  <dcterms:modified xsi:type="dcterms:W3CDTF">2009-06-10T12:59:17Z</dcterms:modified>
  <cp:revision>1</cp:revision>
  <dc:subject/>
  <dc:title>Slide 1</dc:title>
</cp:coreProperties>
</file>